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36E-85A8-4A5E-9731-459E2CD7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33E-9CB7-458F-A88E-AB4E2CC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532-2549-4CF9-B9B5-BC162314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7D0-5B88-4D24-A1B5-D419BBDD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FF4-7BE9-4F78-8AB5-73D8EE63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CD6-7883-4B96-950F-935C024A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BF05-BE47-4843-9780-7E6E891F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8DD-6EE1-45A7-B1A9-4400D532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B6F0-8A01-4300-A7CF-4FF465E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03CD-6D72-4D20-B868-DDB69B4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49A-2138-4C6F-8A3F-1F63D00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9B3-5A6A-4D7C-8EB8-8EFF0C3A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966-A205-4730-91CB-BE79C6CA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85F8-C8A7-4116-A3E8-086B266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E356-115B-45CB-B2A1-4FE26414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D02-7605-4941-BD57-1AEC5E6D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A71-A74A-4D77-9EC7-6B274AA2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3D6C-8B2A-47DC-BA23-E31BED8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2E32-1E1E-4CB5-A1A2-E5D5C317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1762-7E61-4CAF-9C0B-E52124AE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27B1-62ED-49FD-A160-3B25EC5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9C66-ED49-4922-973E-B3AD20E7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D00-0B88-4A47-A584-39D5CEF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FC45-E9C4-49B9-AD6F-02BED0D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9949-6F90-410C-A9DF-902C217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3028-4178-4BB3-A83D-606041B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A4DE-67E3-4591-8744-6F9B33B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6A43-7DFD-4AED-8FDB-15FC9C1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9BBA-D7E3-4E78-A799-557CA3A6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FD52-9922-4E33-9DB1-7F4E7ADE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2C4-F923-420C-8307-17FE3F8F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257-D1A9-4D4C-A354-D1683737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6FA-156C-47AC-B1F4-A4AB4CD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8C0-314D-45F8-8FCF-095BE016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F8B-65D1-4099-8E26-266A753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AB7-B594-4764-893F-2F1DCC8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588-73CB-4F39-BC88-ECCEEA42061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D44-E564-46C2-AC42-050934CACC3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E97-8751-4513-9534-74E970879F6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65B-0CBD-4CDF-AA74-632EDE522C2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719-EEB7-44DC-B930-BB16788F57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992-6BEE-45AF-A357-F04A64A4A39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48852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c7c9f"/>
                </a:solidFill>
                <a:latin typeface="News Gothic MT"/>
              </a:rPr>
              <a:t>Recording Transactions Using a General Journal</a:t>
            </a:r>
            <a:endParaRPr b="0" lang="en-US" sz="45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175248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actions that are not recorded in either the Sales Journal or Cash Receipts Journal are recorded in the General Jour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) Sales Returns and 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) Correcting Entries (Affect customer accounts, but not the controlling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Re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llow a customer for the sales price of returned merchand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Allow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llowed a custom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ales price of merchandise that is not retur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6858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c7c9f"/>
                </a:solidFill>
                <a:latin typeface="News Gothic MT"/>
              </a:rPr>
              <a:t>CREDIT MEMORANDUM FOR SALES RETURNS AND ALLOWANCES</a:t>
            </a:r>
            <a:endParaRPr b="0" lang="en-US" sz="3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7" name="Picture 4" descr="D:\C21 PowerPoint\Multi_Journal\art for blue\Ch19\Ch19-03a.jpg"/>
          <p:cNvPicPr/>
          <p:nvPr/>
        </p:nvPicPr>
        <p:blipFill>
          <a:blip r:embed="rId2"/>
          <a:srcRect l="28727" t="0" r="0" b="64947"/>
          <a:stretch/>
        </p:blipFill>
        <p:spPr>
          <a:xfrm>
            <a:off x="457200" y="1830240"/>
            <a:ext cx="7543800" cy="4494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344360" y="66301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0424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c7c9f"/>
                </a:solidFill>
                <a:latin typeface="News Gothic MT"/>
              </a:rPr>
              <a:t>JOURNALIZING SALES RETURNS AND ALLOWANCES</a:t>
            </a:r>
            <a:endParaRPr b="0" lang="en-US" sz="3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Picture 4" descr="D:\C21 PowerPoint\Multi_Journal\art for blue\Ch19\Ch19-03b.jpg"/>
          <p:cNvPicPr/>
          <p:nvPr/>
        </p:nvPicPr>
        <p:blipFill>
          <a:blip r:embed="rId2"/>
          <a:srcRect l="23647" t="0" r="0" b="77498"/>
          <a:stretch/>
        </p:blipFill>
        <p:spPr>
          <a:xfrm>
            <a:off x="457200" y="1249200"/>
            <a:ext cx="8229600" cy="2781360"/>
          </a:xfrm>
          <a:prstGeom prst="rect">
            <a:avLst/>
          </a:prstGeom>
          <a:ln w="0">
            <a:noFill/>
          </a:ln>
        </p:spPr>
      </p:pic>
      <p:sp>
        <p:nvSpPr>
          <p:cNvPr id="131" name="Oval 6"/>
          <p:cNvSpPr/>
          <p:nvPr/>
        </p:nvSpPr>
        <p:spPr>
          <a:xfrm>
            <a:off x="1219320" y="29257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762120" y="25448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257800" y="25448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7086600" y="239220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1828800" y="23162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14440" y="5446800"/>
            <a:ext cx="40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Memorandum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14440" y="4708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14440" y="5810400"/>
            <a:ext cx="32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Return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14440" y="507348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Debi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14440" y="617220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Debi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7344360" y="6277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4572000" y="5446800"/>
            <a:ext cx="40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onal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572000" y="47084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Sales Tax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4572000" y="5810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mount of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507348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Account Ti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22"/>
          <p:cNvSpPr/>
          <p:nvPr/>
        </p:nvSpPr>
        <p:spPr>
          <a:xfrm>
            <a:off x="2209680" y="345924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23"/>
          <p:cNvSpPr/>
          <p:nvPr/>
        </p:nvSpPr>
        <p:spPr>
          <a:xfrm>
            <a:off x="5486400" y="3382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8381880" y="307800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7086600" y="300204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457200" y="41720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Sales Return/Allowance, the busin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 the sales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c7c9f"/>
                </a:solidFill>
                <a:latin typeface="News Gothic MT"/>
              </a:rPr>
              <a:t>JOURNALIZING CORRECTING ENTRIES AFFECTING CUSTOMER ACCOUNTS</a:t>
            </a:r>
            <a:endParaRPr b="0" lang="en-US" sz="29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D:\C21 PowerPoint\Multi_Journal\art for blue\Ch19\Ch19-03c.jpg"/>
          <p:cNvPicPr/>
          <p:nvPr/>
        </p:nvPicPr>
        <p:blipFill>
          <a:blip r:embed="rId2"/>
          <a:srcRect l="24556" t="0" r="0" b="75828"/>
          <a:stretch/>
        </p:blipFill>
        <p:spPr>
          <a:xfrm>
            <a:off x="457200" y="1401840"/>
            <a:ext cx="8229600" cy="263988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2286000" y="3306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57200" y="2544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5257800" y="2544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708660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676520" y="23162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14440" y="49006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andum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4440" y="4162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14440" y="526428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4440" y="452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14440" y="56260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rectly Charged 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7344360" y="643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3, page 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3059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440" y="59911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Summary of Posting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57200" y="990720"/>
            <a:ext cx="80773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ing from a General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mount in the Debit and Credit columns of the General Journal is posted to the Account named in the Account Title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a Schedule of Accounts Rece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reparing the Schedule of Accounts Receivable, you can compare and then prove the Accounts Receivable Led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ggested Order of Posting from Specia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General Ledger account balances are only needed when preparing financial statements, keeping the subsidiary ledger accounts help maintain accurate rec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) Sales  2.) Purchases  3.) General  4.) Cash Receipts 5.) Cash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7:52:21Z</dcterms:created>
  <dc:creator>Mary Colleen McLaughlin</dc:creator>
  <dc:description/>
  <dc:language>en-US</dc:language>
  <cp:lastModifiedBy>David Combs</cp:lastModifiedBy>
  <cp:lastPrinted>1999-04-08T20:10:15Z</cp:lastPrinted>
  <dcterms:modified xsi:type="dcterms:W3CDTF">2011-09-19T23:33:31Z</dcterms:modified>
  <cp:revision>61</cp:revision>
  <dc:subject/>
  <dc:title>ADJUSTING ENTRY FOR SUPPLIES</dc:title>
</cp:coreProperties>
</file>